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7C9-80BC-49F0-8BAA-B0C18AD8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74F-6FBF-4390-A788-58A69B04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BA5-B56E-43F0-B059-8C48BFA2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CC5-1276-4F7D-A688-CEA56B76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165-F456-4A5C-9211-F31B891F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4C9-1651-40F2-A2F9-378C3B45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7E5-1DCD-47CE-8D8A-1A8D281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06C-3ACA-42DD-AAEF-A865F07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AB6-2F39-41E5-AC73-22F7A50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9A1-D56E-4FAB-9C55-553EE8DD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FB9-C1AE-4CDF-863F-0CD9F2F9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4EB-F607-4C44-9055-A7FEF76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DC17-5DFC-424B-8E86-D164CDD7F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672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inding Unit 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Unit Price: 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  Price per I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Measure or Count of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7524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2590920"/>
            <a:ext cx="601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4495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Allows shoppers to compare the prices of items quickly and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aper%20plates%20ad%202" descr=""/>
          <p:cNvPicPr/>
          <p:nvPr/>
        </p:nvPicPr>
        <p:blipFill>
          <a:blip r:embed="rId1"/>
          <a:stretch/>
        </p:blipFill>
        <p:spPr>
          <a:xfrm>
            <a:off x="0" y="228600"/>
            <a:ext cx="4419720" cy="2379600"/>
          </a:xfrm>
          <a:prstGeom prst="rect">
            <a:avLst/>
          </a:prstGeom>
          <a:ln w="0">
            <a:noFill/>
          </a:ln>
        </p:spPr>
      </p:pic>
      <p:pic>
        <p:nvPicPr>
          <p:cNvPr id="105" name="paper%20plates%20ad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4343400" cy="240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2895480"/>
            <a:ext cx="40384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Dixie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$2.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24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plat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40388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Hefty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2 for $4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50 count (each pk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plat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5638680"/>
            <a:ext cx="8534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is the better buy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228600"/>
            <a:ext cx="40388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hee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3 for $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13.75 oz.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276720"/>
            <a:ext cx="40388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he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3 for $7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15 oz.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6019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is the better buy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cheerios%20ad" descr=""/>
          <p:cNvPicPr/>
          <p:nvPr/>
        </p:nvPicPr>
        <p:blipFill>
          <a:blip r:embed="rId1"/>
          <a:stretch/>
        </p:blipFill>
        <p:spPr>
          <a:xfrm>
            <a:off x="152280" y="0"/>
            <a:ext cx="2665440" cy="3048120"/>
          </a:xfrm>
          <a:prstGeom prst="rect">
            <a:avLst/>
          </a:prstGeom>
          <a:ln w="0">
            <a:noFill/>
          </a:ln>
        </p:spPr>
      </p:pic>
      <p:pic>
        <p:nvPicPr>
          <p:cNvPr id="113" name="cheerios%202" descr=""/>
          <p:cNvPicPr/>
          <p:nvPr/>
        </p:nvPicPr>
        <p:blipFill>
          <a:blip r:embed="rId2"/>
          <a:stretch/>
        </p:blipFill>
        <p:spPr>
          <a:xfrm>
            <a:off x="76320" y="3352680"/>
            <a:ext cx="3276360" cy="234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943600" y="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nuardi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2590920"/>
            <a:ext cx="2819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ant Foo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4600" y="304920"/>
            <a:ext cx="2286000" cy="43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enuardi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ato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10 for $10 + 2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32 oz.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2773440"/>
            <a:ext cx="403884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iant Food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ato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8 pack for $5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20 oz.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5943600"/>
            <a:ext cx="8534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is the better buy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gatorade%202" descr=""/>
          <p:cNvPicPr/>
          <p:nvPr/>
        </p:nvPicPr>
        <p:blipFill>
          <a:blip r:embed="rId1"/>
          <a:stretch/>
        </p:blipFill>
        <p:spPr>
          <a:xfrm>
            <a:off x="0" y="152280"/>
            <a:ext cx="2432160" cy="4267440"/>
          </a:xfrm>
          <a:prstGeom prst="rect">
            <a:avLst/>
          </a:prstGeom>
          <a:ln w="0">
            <a:noFill/>
          </a:ln>
        </p:spPr>
      </p:pic>
      <p:pic>
        <p:nvPicPr>
          <p:cNvPr id="120" name="gatorade%20ad" descr=""/>
          <p:cNvPicPr/>
          <p:nvPr/>
        </p:nvPicPr>
        <p:blipFill>
          <a:blip r:embed="rId2"/>
          <a:stretch/>
        </p:blipFill>
        <p:spPr>
          <a:xfrm>
            <a:off x="5029200" y="0"/>
            <a:ext cx="37242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3055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enuardi’s sells 3 different sizes of mayonnais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mall (10 oz.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 $2.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rmal size (15 oz.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 $2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ig Container (22 oz.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 $3.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ich one is the bette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aper%20towel%20ad" descr=""/>
          <p:cNvPicPr/>
          <p:nvPr/>
        </p:nvPicPr>
        <p:blipFill>
          <a:blip r:embed="rId1"/>
          <a:stretch/>
        </p:blipFill>
        <p:spPr>
          <a:xfrm>
            <a:off x="0" y="0"/>
            <a:ext cx="3716280" cy="385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4800" y="304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457200"/>
            <a:ext cx="54864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Genuardi’s has these paper towels on sale, 8 rolls for $5.9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However they also sell another larger package, 24 rolls for $16.9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You want to buy these since they are on sale, but which is actually the better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aper%20towel%20ad" descr=""/>
          <p:cNvPicPr/>
          <p:nvPr/>
        </p:nvPicPr>
        <p:blipFill>
          <a:blip r:embed="rId1"/>
          <a:stretch/>
        </p:blipFill>
        <p:spPr>
          <a:xfrm>
            <a:off x="566640" y="1219320"/>
            <a:ext cx="2938680" cy="3047760"/>
          </a:xfrm>
          <a:prstGeom prst="rect">
            <a:avLst/>
          </a:prstGeom>
          <a:ln w="0">
            <a:noFill/>
          </a:ln>
        </p:spPr>
      </p:pic>
      <p:pic>
        <p:nvPicPr>
          <p:cNvPr id="126" name="paper%20towels%202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629240" cy="251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43434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Now you want to compare these two brands, which are both on sale.  You have determined that you want 8 rolls of paper towels.  Which brand will you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763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unty: 8 ro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5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763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rsty: 2 ro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2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ater%202" descr=""/>
          <p:cNvPicPr/>
          <p:nvPr/>
        </p:nvPicPr>
        <p:blipFill>
          <a:blip r:embed="rId1"/>
          <a:stretch/>
        </p:blipFill>
        <p:spPr>
          <a:xfrm>
            <a:off x="76320" y="0"/>
            <a:ext cx="2877840" cy="37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water%20ad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4105080" cy="29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352680" y="152280"/>
            <a:ext cx="518184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urier New"/>
              </a:rPr>
              <a:t>Aquafina: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24 p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$3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6.9 oz. bot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581280"/>
            <a:ext cx="441936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urier New"/>
              </a:rPr>
              <a:t>Deer Park: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2 p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$2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2 oz. bot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6094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Genuardi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Uni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57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049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049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Cereal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per%20plates%20ad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2819160" cy="1558800"/>
          </a:xfrm>
          <a:prstGeom prst="rect">
            <a:avLst/>
          </a:prstGeom>
          <a:ln w="0">
            <a:noFill/>
          </a:ln>
        </p:spPr>
      </p:pic>
      <p:pic>
        <p:nvPicPr>
          <p:cNvPr id="58" name="coffee%20ad" descr=""/>
          <p:cNvPicPr/>
          <p:nvPr/>
        </p:nvPicPr>
        <p:blipFill>
          <a:blip r:embed="rId2"/>
          <a:stretch/>
        </p:blipFill>
        <p:spPr>
          <a:xfrm>
            <a:off x="1219320" y="5218200"/>
            <a:ext cx="2971800" cy="1563480"/>
          </a:xfrm>
          <a:prstGeom prst="rect">
            <a:avLst/>
          </a:prstGeom>
          <a:ln w="0">
            <a:noFill/>
          </a:ln>
        </p:spPr>
      </p:pic>
      <p:pic>
        <p:nvPicPr>
          <p:cNvPr id="59" name="cheerios%20ad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9620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3400" y="45720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Pric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371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0.40 per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1337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Price =          $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$0.22 per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2743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3996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Price =        $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75 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$0.15 per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1148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35812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185920"/>
            <a:ext cx="1066680" cy="1015920"/>
          </a:xfrm>
          <a:prstGeom prst="rect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9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3633840"/>
            <a:ext cx="1447920" cy="1015920"/>
          </a:xfrm>
          <a:prstGeom prst="rect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13.75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hoprite%20ad%202" descr=""/>
          <p:cNvPicPr/>
          <p:nvPr/>
        </p:nvPicPr>
        <p:blipFill>
          <a:blip r:embed="rId1"/>
          <a:stretch/>
        </p:blipFill>
        <p:spPr>
          <a:xfrm>
            <a:off x="0" y="-152280"/>
            <a:ext cx="6273720" cy="7296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1066680"/>
            <a:ext cx="4114800" cy="2286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267080"/>
            <a:ext cx="2286000" cy="1219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76320"/>
            <a:ext cx="3048120" cy="374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non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 pack for $4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each bottle is 16.9 oz., how much per o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4154400"/>
            <a:ext cx="3048120" cy="267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ada Dry Ginger 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packs, 3 for 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c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76320" y="228600"/>
            <a:ext cx="609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op Rite Supermarkets</a:t>
            </a:r>
            <a:endParaRPr b="0" i="1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ater%20ad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4114800" cy="29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343400" y="152280"/>
            <a:ext cx="365760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r Park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pack for $2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bottle is 12 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o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tea%20ad" descr=""/>
          <p:cNvPicPr/>
          <p:nvPr/>
        </p:nvPicPr>
        <p:blipFill>
          <a:blip r:embed="rId2"/>
          <a:stretch/>
        </p:blipFill>
        <p:spPr>
          <a:xfrm>
            <a:off x="76320" y="3940200"/>
            <a:ext cx="3962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191120" y="4343400"/>
            <a:ext cx="38862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a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age of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boxes for 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tea ba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91120" y="33526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iant Food Stor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ke%20ad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572000" cy="229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76320"/>
            <a:ext cx="381024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liter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for 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li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gatorade%20ad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42900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2520" y="3276720"/>
            <a:ext cx="4876560" cy="354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to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pack for $5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 oz to 20 oz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oz (for each siz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otato%20chip%20ad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572000" cy="2390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0"/>
            <a:ext cx="3962520" cy="32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ffles Potato 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bags for $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.5 to 20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per oz for each size ba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reyers%20ad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305748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52680" y="3341520"/>
            <a:ext cx="45720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yers Ice C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 one get one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5.79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75 qt. Co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per q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ranges" descr=""/>
          <p:cNvPicPr/>
          <p:nvPr/>
        </p:nvPicPr>
        <p:blipFill>
          <a:blip r:embed="rId1"/>
          <a:stretch/>
        </p:blipFill>
        <p:spPr>
          <a:xfrm>
            <a:off x="441360" y="6480"/>
            <a:ext cx="3110040" cy="365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3657600"/>
            <a:ext cx="2438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Oran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4 lb. Ba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$2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Unit Pr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&amp;ms" descr=""/>
          <p:cNvPicPr/>
          <p:nvPr/>
        </p:nvPicPr>
        <p:blipFill>
          <a:blip r:embed="rId2"/>
          <a:stretch/>
        </p:blipFill>
        <p:spPr>
          <a:xfrm>
            <a:off x="5105520" y="0"/>
            <a:ext cx="3030480" cy="396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419112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M &amp; M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14 oz. Bag for $2.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Unit Pr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95680" y="0"/>
            <a:ext cx="0" cy="563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detergent%201" descr=""/>
          <p:cNvPicPr/>
          <p:nvPr/>
        </p:nvPicPr>
        <p:blipFill>
          <a:blip r:embed="rId1"/>
          <a:stretch/>
        </p:blipFill>
        <p:spPr>
          <a:xfrm>
            <a:off x="76320" y="0"/>
            <a:ext cx="4343400" cy="2301840"/>
          </a:xfrm>
          <a:prstGeom prst="rect">
            <a:avLst/>
          </a:prstGeom>
          <a:ln w="0">
            <a:noFill/>
          </a:ln>
        </p:spPr>
      </p:pic>
      <p:pic>
        <p:nvPicPr>
          <p:cNvPr id="97" name="detergent%202" descr=""/>
          <p:cNvPicPr/>
          <p:nvPr/>
        </p:nvPicPr>
        <p:blipFill>
          <a:blip r:embed="rId2"/>
          <a:stretch/>
        </p:blipFill>
        <p:spPr>
          <a:xfrm>
            <a:off x="5181480" y="0"/>
            <a:ext cx="3429000" cy="2894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320" y="2362320"/>
            <a:ext cx="4343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Safeway Select Det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300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$10.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What is the Unit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819520"/>
            <a:ext cx="46483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Wisk Laundry Det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100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$4.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What is the Unit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5867280"/>
            <a:ext cx="7619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the better bu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52280"/>
            <a:ext cx="8305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arison Shopping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ing the Better Bu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06676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Finding the Better Buy” is determining which size, store, or deal will give you the most product for your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We use Unit Prices to compare product sizes to find the better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We also use Unit Prices to determine which store or deal will give us the better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2:58:51Z</dcterms:created>
  <dc:creator>Teacher</dc:creator>
  <dc:description/>
  <dc:language>en-US</dc:language>
  <cp:lastModifiedBy>Teacher</cp:lastModifiedBy>
  <dcterms:modified xsi:type="dcterms:W3CDTF">2005-04-26T18:33:51Z</dcterms:modified>
  <cp:revision>7</cp:revision>
  <dc:subject/>
  <dc:title>PowerPoint Presentation</dc:title>
</cp:coreProperties>
</file>